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wmf" ContentType="image/x-wmf"/>
  <Override PartName="/ppt/media/image9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107-9B56-482F-81F2-DFCB49DE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2234-A2EB-43FD-AC5B-D3BC4323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0E71-D9D6-451B-8EC2-1B3A9681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3DC-1C00-4A9F-8DB4-5F0B0B58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EA27-E095-413B-821B-122672D7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B821-C99E-4CBD-B354-12C075E5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CE94-63D6-4BDA-94FF-647A8F64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F1744-649C-4049-B16A-6954F383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688E-8843-4791-AF94-17E2743E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62774-A4F1-4EEB-98F1-D7382C02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46CC-002C-44E3-876F-860E3F32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37B-049F-4A3C-A263-C1A14C09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B5D31-A3C1-4B3F-A9A5-2EEC427D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94559-9C5A-46DF-B526-2D9128B5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E960-8269-48F2-8244-9DE2394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6529-9A48-4B0D-B657-03FF7E6F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D9E8-7147-4CCD-B940-752BC9E3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C8FE-411C-4EAE-B647-810547A7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B524-89F9-4D85-A2FB-0CB6D258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5E845-7325-4B5B-ACAC-C67673FB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81E3D-27C3-4B87-8054-5EF91FB4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7C87-DB39-48EC-9C14-03613D9A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4438-E47C-447D-A4A3-25A5A11D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A2D58-40AE-4B08-A9B7-4E14E507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D5A48-F159-4D2F-BAC3-08A71FFD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E8379-DF56-4121-B0D9-F4C72D1A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EB53-8B49-4894-8627-729C0F6D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8A14-FA02-41AF-8D7A-D527FF2A0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EA15-7AA7-4554-B9E4-0300E702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6F763-0A15-4A32-97ED-323C37F1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3072A-0E12-47E7-90FE-00447FD7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DEFF6-F131-4796-8115-A2CA6552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5E477-EA74-40B6-BFD4-2A2F3EC6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3F3C-545B-4EDD-990A-53655A4B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C301C-E79A-4F0F-9282-257DD17C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444EB-531D-4BB0-893A-06284CA2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558DC-CCC0-48CC-BCFF-CD64F800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94BBD-1FA7-430E-A3FB-1CFDB913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4A09E-C04E-4536-A517-A6633567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CC33-E1AF-4D7A-BE04-73FF0DC6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748D-A8DE-4BAC-BBB1-27F8FBFE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3103A-5A17-4490-9FA4-93F256D5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176D-B956-4913-8DB8-C4AC2A39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17E5-5C80-4842-AE4D-13B0CFE4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5DE4-2EA1-4BDB-B5AB-E0A5FC5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F67CB-9341-403E-B279-4572796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42F58-28AD-441C-B4DB-04420B91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3C346-E4BB-4FA1-B678-F93F8D202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FE9A9-F950-418F-85A7-C67883EE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410DF-535D-4C2A-800E-8550CE33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C7840-1446-43EB-A5B4-93B59C22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65794-D79F-4049-B2E0-9602137B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FF8FB-72E5-4807-AAE5-FD3886D3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E91D1-62C8-43A6-8EFD-CF7C4211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4FBE9-B00B-44AC-8657-3DC88D8C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84280" y="685800"/>
            <a:ext cx="100188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731-5834-4E12-9679-EADEFC0E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718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259480" y="266652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14842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8718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259480" y="4298400"/>
            <a:ext cx="32259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CF717-9A60-45D7-943E-CFB522D3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78E-F911-4E41-8E90-C099AE7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18240" y="429840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A18-A55A-4195-B277-C4DE90D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18240" y="2666520"/>
            <a:ext cx="488916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4280" y="4298400"/>
            <a:ext cx="10018800" cy="149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22E-155F-4813-8631-3C646E01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85688-3807-416A-8093-098BCE9DE7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3"/>
          <p:cNvGrpSpPr/>
          <p:nvPr/>
        </p:nvGrpSpPr>
        <p:grpSpPr>
          <a:xfrm>
            <a:off x="546120" y="-4680"/>
            <a:ext cx="5014800" cy="6862680"/>
            <a:chOff x="546120" y="-4680"/>
            <a:chExt cx="5014800" cy="6862680"/>
          </a:xfrm>
        </p:grpSpPr>
        <p:sp>
          <p:nvSpPr>
            <p:cNvPr id="49" name="Freeform 6"/>
            <p:cNvSpPr/>
            <p:nvPr/>
          </p:nvSpPr>
          <p:spPr>
            <a:xfrm>
              <a:off x="984240" y="-4680"/>
              <a:ext cx="1063440" cy="2782800"/>
            </a:xfrm>
            <a:custGeom>
              <a:avLst/>
              <a:gdLst/>
              <a:ahLst/>
              <a:rect l="l" t="t" r="r" b="b"/>
              <a:pathLst>
                <a:path w="670" h="1753">
                  <a:moveTo>
                    <a:pt x="0" y="1696"/>
                  </a:moveTo>
                  <a:lnTo>
                    <a:pt x="225" y="1753"/>
                  </a:lnTo>
                  <a:lnTo>
                    <a:pt x="670" y="0"/>
                  </a:lnTo>
                  <a:lnTo>
                    <a:pt x="430" y="0"/>
                  </a:lnTo>
                  <a:lnTo>
                    <a:pt x="0" y="1696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0" name="Freeform 7"/>
            <p:cNvSpPr/>
            <p:nvPr/>
          </p:nvSpPr>
          <p:spPr>
            <a:xfrm>
              <a:off x="546120" y="-4680"/>
              <a:ext cx="1035000" cy="2673360"/>
            </a:xfrm>
            <a:custGeom>
              <a:avLst/>
              <a:gdLst/>
              <a:ahLst/>
              <a:rect l="l" t="t" r="r" b="b"/>
              <a:pathLst>
                <a:path w="652" h="1684">
                  <a:moveTo>
                    <a:pt x="225" y="1684"/>
                  </a:moveTo>
                  <a:lnTo>
                    <a:pt x="652" y="0"/>
                  </a:lnTo>
                  <a:lnTo>
                    <a:pt x="411" y="0"/>
                  </a:lnTo>
                  <a:lnTo>
                    <a:pt x="0" y="1627"/>
                  </a:lnTo>
                  <a:lnTo>
                    <a:pt x="219" y="1681"/>
                  </a:lnTo>
                  <a:lnTo>
                    <a:pt x="225" y="1684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1" name="Freeform 9"/>
            <p:cNvSpPr/>
            <p:nvPr/>
          </p:nvSpPr>
          <p:spPr>
            <a:xfrm>
              <a:off x="546120" y="2583000"/>
              <a:ext cx="2693880" cy="4275000"/>
            </a:xfrm>
            <a:custGeom>
              <a:avLst/>
              <a:gdLst/>
              <a:ahLst/>
              <a:rect l="l" t="t" r="r" b="b"/>
              <a:pathLst>
                <a:path w="1697" h="2693">
                  <a:moveTo>
                    <a:pt x="0" y="0"/>
                  </a:moveTo>
                  <a:lnTo>
                    <a:pt x="1622" y="2693"/>
                  </a:lnTo>
                  <a:lnTo>
                    <a:pt x="1697" y="26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2" name="Freeform 10"/>
            <p:cNvSpPr/>
            <p:nvPr/>
          </p:nvSpPr>
          <p:spPr>
            <a:xfrm>
              <a:off x="988920" y="2692440"/>
              <a:ext cx="3332160" cy="4165560"/>
            </a:xfrm>
            <a:custGeom>
              <a:avLst/>
              <a:gdLst/>
              <a:ahLst/>
              <a:rect l="l" t="t" r="r" b="b"/>
              <a:pathLst>
                <a:path w="2099" h="2624">
                  <a:moveTo>
                    <a:pt x="2099" y="2624"/>
                  </a:moveTo>
                  <a:lnTo>
                    <a:pt x="0" y="0"/>
                  </a:lnTo>
                  <a:lnTo>
                    <a:pt x="2021" y="2624"/>
                  </a:lnTo>
                  <a:lnTo>
                    <a:pt x="2099" y="2624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3" name="Freeform 11"/>
            <p:cNvSpPr/>
            <p:nvPr/>
          </p:nvSpPr>
          <p:spPr>
            <a:xfrm>
              <a:off x="984240" y="2687760"/>
              <a:ext cx="4576680" cy="4170240"/>
            </a:xfrm>
            <a:custGeom>
              <a:avLst/>
              <a:gdLst/>
              <a:ahLst/>
              <a:rect l="l" t="t" r="r" b="b"/>
              <a:pathLst>
                <a:path w="2883" h="2627">
                  <a:moveTo>
                    <a:pt x="0" y="0"/>
                  </a:moveTo>
                  <a:lnTo>
                    <a:pt x="3" y="3"/>
                  </a:lnTo>
                  <a:lnTo>
                    <a:pt x="2102" y="2627"/>
                  </a:lnTo>
                  <a:lnTo>
                    <a:pt x="2883" y="2627"/>
                  </a:lnTo>
                  <a:lnTo>
                    <a:pt x="225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54" name="Freeform 12"/>
            <p:cNvSpPr/>
            <p:nvPr/>
          </p:nvSpPr>
          <p:spPr>
            <a:xfrm>
              <a:off x="546120" y="2577960"/>
              <a:ext cx="3584520" cy="4280040"/>
            </a:xfrm>
            <a:custGeom>
              <a:avLst/>
              <a:gdLst/>
              <a:ahLst/>
              <a:rect l="l" t="t" r="r" b="b"/>
              <a:pathLst>
                <a:path w="2258" h="2696">
                  <a:moveTo>
                    <a:pt x="2258" y="2696"/>
                  </a:moveTo>
                  <a:lnTo>
                    <a:pt x="264" y="111"/>
                  </a:lnTo>
                  <a:lnTo>
                    <a:pt x="228" y="60"/>
                  </a:lnTo>
                  <a:lnTo>
                    <a:pt x="225" y="57"/>
                  </a:lnTo>
                  <a:lnTo>
                    <a:pt x="0" y="0"/>
                  </a:lnTo>
                  <a:lnTo>
                    <a:pt x="0" y="3"/>
                  </a:lnTo>
                  <a:lnTo>
                    <a:pt x="1697" y="2696"/>
                  </a:lnTo>
                  <a:lnTo>
                    <a:pt x="2258" y="269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5332320" y="5882760"/>
            <a:ext cx="4324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4FC84-5EF5-4BCF-B2BF-E1B1C97B10C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97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8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99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0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1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02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10952280" y="586692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88F1C-AD02-48B3-8B26-13B5D922B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4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5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0D798-2B08-475D-B6AD-FAC402D0CC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6"/>
          <p:cNvGrpSpPr/>
          <p:nvPr/>
        </p:nvGrpSpPr>
        <p:grpSpPr>
          <a:xfrm>
            <a:off x="150840" y="0"/>
            <a:ext cx="2436840" cy="6858000"/>
            <a:chOff x="150840" y="0"/>
            <a:chExt cx="2436840" cy="6858000"/>
          </a:xfrm>
        </p:grpSpPr>
        <p:sp>
          <p:nvSpPr>
            <p:cNvPr id="195" name="Freeform 6"/>
            <p:cNvSpPr/>
            <p:nvPr/>
          </p:nvSpPr>
          <p:spPr>
            <a:xfrm>
              <a:off x="457200" y="0"/>
              <a:ext cx="1122480" cy="5329440"/>
            </a:xfrm>
            <a:custGeom>
              <a:avLst/>
              <a:gdLst/>
              <a:ahLst/>
              <a:rect l="l" t="t" r="r" b="b"/>
              <a:pathLst>
                <a:path w="707" h="3357">
                  <a:moveTo>
                    <a:pt x="0" y="3330"/>
                  </a:moveTo>
                  <a:lnTo>
                    <a:pt x="156" y="3357"/>
                  </a:lnTo>
                  <a:lnTo>
                    <a:pt x="707" y="0"/>
                  </a:lnTo>
                  <a:lnTo>
                    <a:pt x="547" y="0"/>
                  </a:lnTo>
                  <a:lnTo>
                    <a:pt x="0" y="3330"/>
                  </a:lnTo>
                  <a:close/>
                </a:path>
              </a:pathLst>
            </a:custGeom>
            <a:solidFill>
              <a:srgbClr val="b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6" name="Freeform 7"/>
            <p:cNvSpPr/>
            <p:nvPr/>
          </p:nvSpPr>
          <p:spPr>
            <a:xfrm>
              <a:off x="150840" y="0"/>
              <a:ext cx="1117440" cy="5276880"/>
            </a:xfrm>
            <a:custGeom>
              <a:avLst/>
              <a:gdLst/>
              <a:ahLst/>
              <a:rect l="l" t="t" r="r" b="b"/>
              <a:pathLst>
                <a:path w="704" h="3324">
                  <a:moveTo>
                    <a:pt x="704" y="0"/>
                  </a:moveTo>
                  <a:lnTo>
                    <a:pt x="545" y="0"/>
                  </a:lnTo>
                  <a:lnTo>
                    <a:pt x="0" y="3300"/>
                  </a:lnTo>
                  <a:lnTo>
                    <a:pt x="157" y="332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59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7" name="Freeform 8"/>
            <p:cNvSpPr/>
            <p:nvPr/>
          </p:nvSpPr>
          <p:spPr>
            <a:xfrm>
              <a:off x="150840" y="5238720"/>
              <a:ext cx="1228680" cy="1619280"/>
            </a:xfrm>
            <a:custGeom>
              <a:avLst/>
              <a:gdLst/>
              <a:ahLst/>
              <a:rect l="l" t="t" r="r" b="b"/>
              <a:pathLst>
                <a:path w="774" h="1020">
                  <a:moveTo>
                    <a:pt x="0" y="0"/>
                  </a:moveTo>
                  <a:lnTo>
                    <a:pt x="740" y="1020"/>
                  </a:lnTo>
                  <a:lnTo>
                    <a:pt x="774" y="10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8" name="Freeform 9"/>
            <p:cNvSpPr/>
            <p:nvPr/>
          </p:nvSpPr>
          <p:spPr>
            <a:xfrm>
              <a:off x="457200" y="5291280"/>
              <a:ext cx="1495440" cy="1566720"/>
            </a:xfrm>
            <a:custGeom>
              <a:avLst/>
              <a:gdLst/>
              <a:ahLst/>
              <a:rect l="l" t="t" r="r" b="b"/>
              <a:pathLst>
                <a:path w="942" h="987">
                  <a:moveTo>
                    <a:pt x="0" y="0"/>
                  </a:moveTo>
                  <a:lnTo>
                    <a:pt x="909" y="987"/>
                  </a:lnTo>
                  <a:lnTo>
                    <a:pt x="942" y="9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0e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199" name="Freeform 10"/>
            <p:cNvSpPr/>
            <p:nvPr/>
          </p:nvSpPr>
          <p:spPr>
            <a:xfrm>
              <a:off x="457200" y="5286600"/>
              <a:ext cx="2130480" cy="1571400"/>
            </a:xfrm>
            <a:custGeom>
              <a:avLst/>
              <a:gdLst/>
              <a:ahLst/>
              <a:rect l="l" t="t" r="r" b="b"/>
              <a:pathLst>
                <a:path w="1342" h="990">
                  <a:moveTo>
                    <a:pt x="0" y="3"/>
                  </a:moveTo>
                  <a:lnTo>
                    <a:pt x="942" y="990"/>
                  </a:lnTo>
                  <a:lnTo>
                    <a:pt x="1342" y="990"/>
                  </a:lnTo>
                  <a:lnTo>
                    <a:pt x="156" y="27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d15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  <p:sp>
          <p:nvSpPr>
            <p:cNvPr id="200" name="Freeform 11"/>
            <p:cNvSpPr/>
            <p:nvPr/>
          </p:nvSpPr>
          <p:spPr>
            <a:xfrm>
              <a:off x="150840" y="5238720"/>
              <a:ext cx="1695600" cy="1619280"/>
            </a:xfrm>
            <a:custGeom>
              <a:avLst/>
              <a:gdLst/>
              <a:ahLst/>
              <a:rect l="l" t="t" r="r" b="b"/>
              <a:pathLst>
                <a:path w="1068" h="1020">
                  <a:moveTo>
                    <a:pt x="1068" y="1020"/>
                  </a:moveTo>
                  <a:lnTo>
                    <a:pt x="184" y="60"/>
                  </a:lnTo>
                  <a:lnTo>
                    <a:pt x="154" y="27"/>
                  </a:lnTo>
                  <a:lnTo>
                    <a:pt x="157" y="27"/>
                  </a:lnTo>
                  <a:lnTo>
                    <a:pt x="157" y="24"/>
                  </a:lnTo>
                  <a:lnTo>
                    <a:pt x="154" y="24"/>
                  </a:lnTo>
                  <a:lnTo>
                    <a:pt x="0" y="0"/>
                  </a:lnTo>
                  <a:lnTo>
                    <a:pt x="0" y="0"/>
                  </a:lnTo>
                  <a:lnTo>
                    <a:pt x="774" y="1020"/>
                  </a:lnTo>
                  <a:lnTo>
                    <a:pt x="1068" y="1020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01" name="TextBox 13"/>
          <p:cNvSpPr/>
          <p:nvPr/>
        </p:nvSpPr>
        <p:spPr>
          <a:xfrm>
            <a:off x="1598760" y="86364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TextBox 14"/>
          <p:cNvSpPr/>
          <p:nvPr/>
        </p:nvSpPr>
        <p:spPr>
          <a:xfrm>
            <a:off x="10893600" y="281952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8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7000"/>
          </a:bodyPr>
          <a:p>
            <a:pPr marL="2484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044000" indent="-24840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3" marL="13420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4" marL="1739880" indent="-1490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5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6" marL="1739880" indent="-1490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3"/>
          </p:nvPr>
        </p:nvSpPr>
        <p:spPr>
          <a:xfrm>
            <a:off x="9732600" y="5882760"/>
            <a:ext cx="114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4"/>
          </p:nvPr>
        </p:nvSpPr>
        <p:spPr>
          <a:xfrm>
            <a:off x="2571840" y="5882760"/>
            <a:ext cx="7084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5"/>
          </p:nvPr>
        </p:nvSpPr>
        <p:spPr>
          <a:xfrm>
            <a:off x="10952280" y="5882760"/>
            <a:ext cx="550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AE4FD-B20C-436F-A549-9485BDE26C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ricscheske.com/blog/wp-content/uploads/2008/10/schizoid.jpg&amp;imgrefurl=http://www.ericscheske.com/blog/?p=6231&amp;usg=__trhIFO4fynEgSmHFv-2IBBTNBug=&amp;h=375&amp;w=500&amp;sz=90&amp;hl=en&amp;start=6&amp;um=1&amp;tbnid=8GjaUBb2QNl9FM:&amp;tbnh=98&amp;tbnw=130&amp;prev=/images?q=schizoid&amp;hl=en&amp;rls=ADBS,ADBS:2007-11,ADBS:en&amp;um=1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.ehow.com/images/GlobalPhoto/Articles/4560241/Hannibal-main_Full.jpg&amp;imgrefurl=http://www.ehow.com/how_4560241_recognize-antisocial-personality-disorder.html&amp;usg=__VyFmjEK8Cz_DmzMgzhzKeZl6tbE=&amp;h=291&amp;w=299&amp;sz=18&amp;hl=en&amp;start=59&amp;tbnid=dGQhUQtpVF4LAM:&amp;tbnh=113&amp;tbnw=116&amp;prev=/images?q=antisocial+personality+disorder&amp;gbv=2&amp;ndsp=20&amp;hl=en&amp;sa=N&amp;start=40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8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28600" y="1379160"/>
            <a:ext cx="8574120" cy="26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rbel"/>
              </a:rPr>
              <a:t>Personality Disorder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Line 16"/>
          <p:cNvSpPr/>
          <p:nvPr/>
        </p:nvSpPr>
        <p:spPr>
          <a:xfrm>
            <a:off x="2057400" y="3200400"/>
            <a:ext cx="8229600" cy="0"/>
          </a:xfrm>
          <a:prstGeom prst="line">
            <a:avLst/>
          </a:prstGeom>
          <a:ln w="38160">
            <a:solidFill>
              <a:srgbClr val="ffffcc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tisocial Personality Disord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77880" y="210456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7000"/>
          </a:bodyPr>
          <a:p>
            <a:pPr marL="277200" indent="-277200"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4 times more common in men than women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7200" indent="-277200"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Often arrested, therefore researchers frequently look at prison population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20720" indent="-277200"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Higher rates of alcoholism/substance use disorders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A2E0E-65D7-45CA-8554-0588C296653E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360" y="533520"/>
            <a:ext cx="8580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679400" y="63000"/>
            <a:ext cx="6840720" cy="102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rderline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2031840" y="2095560"/>
            <a:ext cx="6774120" cy="63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Five or more of the following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Frantic efforts to avoid abandon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Unstable and intense relationship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Unstable self imag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Impulsivity (self destructive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Suicidal behavi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Affective insta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Chronic feelings of emptin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rebuchet MS"/>
              </a:rPr>
              <a:t>Inappropriate, intense ang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8947080" y="2644920"/>
            <a:ext cx="2286000" cy="35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692360" y="314280"/>
            <a:ext cx="8580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679040" y="1297080"/>
            <a:ext cx="714708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Aft>
                <a:spcPts val="601"/>
              </a:spcAft>
              <a:buClr>
                <a:srgbClr val="8d1515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istrionic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ve or more of the following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ncomfortable if not the center of atten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appropriately seductive or provocati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apidly shifting and shallow emo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se of appearance to draw attention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peech is impressionistic and lacking in detai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elf-dramatization, theatrica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uggesti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520560" indent="-285480">
              <a:lnSpc>
                <a:spcPct val="90000"/>
              </a:lnSpc>
              <a:spcBef>
                <a:spcPts val="601"/>
              </a:spcBef>
              <a:buClr>
                <a:srgbClr val="9baf68"/>
              </a:buClr>
              <a:buSzPct val="145000"/>
              <a:buFont typeface="Wingdings 2" charset="2"/>
              <a:buChar char="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iders relationships more intimate than they a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8d1515"/>
              </a:buClr>
              <a:buSzPct val="145000"/>
              <a:buFont typeface="Wingdings 2" charset="2"/>
              <a:buChar char="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79" name="Picture 6" descr="http://tbn0.google.com/images?q=tbn:BVLg4A81gz9ouM:http://farm3.static.flickr.com/2101/1722871852_eed11f8d49.jpg"/>
          <p:cNvPicPr/>
          <p:nvPr/>
        </p:nvPicPr>
        <p:blipFill>
          <a:blip r:embed="rId1"/>
          <a:stretch/>
        </p:blipFill>
        <p:spPr>
          <a:xfrm>
            <a:off x="8699400" y="2019240"/>
            <a:ext cx="1727280" cy="43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692360" y="326520"/>
            <a:ext cx="85802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679400" y="1373040"/>
            <a:ext cx="8352000" cy="54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arcissistic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ve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randiose sense of self-import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eoccupied with fantasies of unlimited success, power, brilliance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Belief that he or she is “special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quires excessive admir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ense of entitle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terpersonally exploitativ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acks empath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ften enviou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rrogant or haugh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82" name="Picture 4" descr="MCPE06903_0000[1]"/>
          <p:cNvPicPr/>
          <p:nvPr/>
        </p:nvPicPr>
        <p:blipFill>
          <a:blip r:embed="rId1"/>
          <a:stretch/>
        </p:blipFill>
        <p:spPr>
          <a:xfrm flipH="1">
            <a:off x="8016840" y="3290760"/>
            <a:ext cx="3573360" cy="335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ow Do Theorists Expl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Narcissistic Personality Disorder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1000"/>
          </a:bodyPr>
          <a:p>
            <a:pPr marL="231480" indent="-23148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sychodynamic theorists more than others have theorized about this disorder, focusing on cold, rejecting par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01560" indent="-23148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pret this grandiose self-presentation as a way for people with this disorder to convince themselves that they are self-sufficient and without need of warm relationship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01560" indent="-23148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earch has found increased risk for developing the disorder among abused children and those who lost parents through adoption, divorce, or death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D7F700-0A72-4942-9255-9C3D5F247012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How Do Theorists Expl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Narcissistic Personality Disorder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280080" indent="-28008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gnitive-behavioral theorists propose that narcissistic personality disorder may develop when people are trea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rbel"/>
              </a:rPr>
              <a:t>too positively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ather than too negatively in early lif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27920" indent="-280080">
              <a:spcBef>
                <a:spcPts val="4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ose with the disorder have been taught to “overvalue their self-worth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7CFCB-5103-4108-88DB-A64BFD4DA8B8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692360" y="314280"/>
            <a:ext cx="85802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476360" y="1372680"/>
            <a:ext cx="6840720" cy="6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voidant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600200" y="1968480"/>
            <a:ext cx="855972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Avoids activities due to fear of criticism, disapproval or rejec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Unwilling to get involved with people unless certain of being lik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Restrained in relationships due to fear of being shamed or ridiculed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Preoccupied with criticism or rejection in social situ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Inhibited in new situations due to feelings of inadequac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Views self as inept, unappealing, inferi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Reluctant to take personal risk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2" name="Picture 8" descr="http://tbn3.google.com/images?q=tbn:r5IfG3jIgetIqM:http://joyfulsky.weebly.com/uploads/1/4/3/9/143995/5161319.bmp"/>
          <p:cNvPicPr/>
          <p:nvPr/>
        </p:nvPicPr>
        <p:blipFill>
          <a:blip r:embed="rId1"/>
          <a:stretch/>
        </p:blipFill>
        <p:spPr>
          <a:xfrm>
            <a:off x="9083520" y="173160"/>
            <a:ext cx="2882880" cy="2400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360" y="326520"/>
            <a:ext cx="85802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679400" y="1372680"/>
            <a:ext cx="684072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ent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152360" y="1892160"/>
            <a:ext cx="951552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rebuchet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ive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Excessive need for advice and reassurance to mak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decision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Needs others to assume responsibility for most area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of life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Difficulty expressing disagreemen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Difficulty initiating or doing things on own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Goes to excessive lengths for nurturance or support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Feels helpless when alone, due to exaggerated fear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of being unable to care for self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Urgently seeks new relationship if close relationship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    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ends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Preoccupied with fears of being left to care for self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96" name="Picture 14" descr="http://www.cartoonstock.com/lowres/for0272l.jpg"/>
          <p:cNvPicPr/>
          <p:nvPr/>
        </p:nvPicPr>
        <p:blipFill>
          <a:blip r:embed="rId1"/>
          <a:stretch/>
        </p:blipFill>
        <p:spPr>
          <a:xfrm>
            <a:off x="9196560" y="3246480"/>
            <a:ext cx="294300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3560" y="314280"/>
            <a:ext cx="11441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5080" y="1372680"/>
            <a:ext cx="1213668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bsessive-Compulsive Personality Disorder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06520" y="1981080"/>
            <a:ext cx="5367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ersonality traits involving preoccupation with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orderliness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perfectionism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,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rebuchet MS"/>
              </a:rPr>
              <a:t>control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 at the expense of spontaneity, flexibility, and enjoy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5" descr="MPj03872990000[1]"/>
          <p:cNvPicPr/>
          <p:nvPr/>
        </p:nvPicPr>
        <p:blipFill>
          <a:blip r:embed="rId1"/>
          <a:stretch/>
        </p:blipFill>
        <p:spPr>
          <a:xfrm>
            <a:off x="7945560" y="2413080"/>
            <a:ext cx="3479760" cy="365760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23560" y="314280"/>
            <a:ext cx="114411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08080" y="1372680"/>
            <a:ext cx="117108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sessive-Compulsive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11360" y="1828800"/>
            <a:ext cx="111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Four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4" name="Picture 8" descr="MPj04088840000[1]"/>
          <p:cNvPicPr/>
          <p:nvPr/>
        </p:nvPicPr>
        <p:blipFill>
          <a:blip r:embed="rId1"/>
          <a:srcRect l="0" t="0" r="28452" b="0"/>
          <a:stretch/>
        </p:blipFill>
        <p:spPr>
          <a:xfrm>
            <a:off x="9466200" y="4127400"/>
            <a:ext cx="2421000" cy="25401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  <p:sp>
        <p:nvSpPr>
          <p:cNvPr id="305" name="Text Box 9"/>
          <p:cNvSpPr/>
          <p:nvPr/>
        </p:nvSpPr>
        <p:spPr>
          <a:xfrm>
            <a:off x="271440" y="4533840"/>
            <a:ext cx="90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    </a:t>
            </a:r>
            <a:r>
              <a:rPr b="1" lang="en-US" sz="1800" spc="-1" strike="noStrike">
                <a:solidFill>
                  <a:srgbClr val="990033"/>
                </a:solidFill>
                <a:latin typeface="Trebuchet MS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1490760" y="2400480"/>
            <a:ext cx="1070136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Preoccupation with rules, lists, order, schedules, etc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Perfectionism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Excessive devotion to work and productivity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Over-conscientious, scrupulous, inflexible about morality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Inability to discard worn-out or worthless object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Reluctance to delegate tasks or work with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   </a:t>
            </a: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others unless they submit to exactly his or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   </a:t>
            </a: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her way of doing thing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Miserly spending style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990033"/>
                </a:solidFill>
                <a:latin typeface="Trebuchet MS"/>
              </a:rPr>
              <a:t>Rigidity and stubbornness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3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84280" y="1810800"/>
            <a:ext cx="10018800" cy="49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hat is personality?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ersonality is a unique and long-term pattern of inner experience and outward behavio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so flexible, allowing us to learn and adapt to new environm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1200240" indent="-28584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or those with personality disorders, however, that flexibility is usually miss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C5E94-72ED-4AFA-AB10-463C9325B438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Personality Disord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marL="2484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ersonality disorder typically becomes recognizable in adolescence or early adulthood and symptoms last for yea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mong the most difficult psychological disorders to trea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ny sufferers are not even aware of their personality disord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6200" indent="-248400"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stimated that 9% to 13% of all adults may have a personality disord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2688BE-7A02-4005-991E-071785CECD36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84280" y="30492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Classifying Personality Disorders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84280" y="1690560"/>
            <a:ext cx="10018800" cy="516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>
              <a:spcBef>
                <a:spcPts val="55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The DSM-5 identifies ten personality disorders and separates these into three groups or </a:t>
            </a:r>
            <a:r>
              <a:rPr b="0" lang="ja-JP" sz="2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clusters</a:t>
            </a:r>
            <a:r>
              <a:rPr b="0" lang="ja-JP" sz="2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orbe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dd or eccentric behavi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2788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anoid, schizoid, and schizotypal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ramatic, emotional, or erratic behavi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2788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tisocial, borderline, histrionic, and narcissisti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840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xious or fearful behavio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1127880" indent="-268560"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voidant, dependent, and obsessive-compulsiv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DD9B0-0805-4CC1-98A6-717B3BE3AC74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692360" y="225360"/>
            <a:ext cx="8580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Classifying Personality Disorders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43120" y="1932120"/>
            <a:ext cx="3603600" cy="47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600" spc="-1" strike="noStrike" u="sng">
                <a:solidFill>
                  <a:srgbClr val="000000"/>
                </a:solidFill>
                <a:uFillTx/>
                <a:latin typeface="Corbel"/>
              </a:rPr>
              <a:t>Odd or eccentric</a:t>
            </a: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1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Extreme suspiciousness, social withdrawal, and peculiar ways of thinking and perceiving thing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4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1624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58" name="Picture 6" descr="http://www.philosophicalrabbit.com/photos/uncategorized/2007/10/21/paranoia500.jpg"/>
          <p:cNvPicPr/>
          <p:nvPr/>
        </p:nvPicPr>
        <p:blipFill>
          <a:blip r:embed="rId1"/>
          <a:stretch/>
        </p:blipFill>
        <p:spPr>
          <a:xfrm>
            <a:off x="5905440" y="2095560"/>
            <a:ext cx="36957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04960" y="293760"/>
            <a:ext cx="9509040" cy="60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100000"/>
              </a:lnSpc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noid Personality Disorde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ur or mo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 the following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Suspiciousness of oth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njustified doubts about disloyal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luctance to confide in oth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ading threatening meanings into insignificant even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ersistent tendency to bear grudg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endency to feel attacked and counterattack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njustified suspiciousness about infidelity of partn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0" name="Picture 4" descr="szajiw11[1]"/>
          <p:cNvPicPr/>
          <p:nvPr/>
        </p:nvPicPr>
        <p:blipFill>
          <a:blip r:embed="rId1"/>
          <a:stretch/>
        </p:blipFill>
        <p:spPr>
          <a:xfrm>
            <a:off x="8159760" y="1359000"/>
            <a:ext cx="233028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92360" y="326520"/>
            <a:ext cx="85802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679400" y="1373040"/>
            <a:ext cx="6840720" cy="548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izoid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 four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Neither desires nor enjoys close relationship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lmost always chooses solitud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ittle if any interest in sexual relationship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akes pleasure in few activiti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acks close friend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ndifferent to praise or criticism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Emotional coldness, detachment or flatn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3" name="Picture 2" descr="http://t2.gstatic.com/images?q=tbn:8GjaUBb2QNl9FM:http://www.ericscheske.com/blog/wp-content/uploads/2008/10/schizoi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1880" y="2971800"/>
            <a:ext cx="22860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360" y="152280"/>
            <a:ext cx="8580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679040" y="1372680"/>
            <a:ext cx="651204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isocial Personality Dis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cludes three or more of the following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Failure to conform to lawful behavi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Deceitfuln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mpulsiv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Irritability or aggressiven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Reckless disregard for safety of self and other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Consistent irresponsibility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Lack of remor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266" name="Picture 6" descr="http://tbn1.google.com/images?q=tbn:dGQhUQtpVF4LAM:http://i.ehow.com/images/GlobalPhoto/Articles/4560241/Hannibal-main_Fu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66240" y="2019240"/>
            <a:ext cx="22096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84280" y="685800"/>
            <a:ext cx="10018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rbel"/>
              </a:rPr>
              <a:t>Antisocial Personality Disorder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84280" y="2666520"/>
            <a:ext cx="10018800" cy="312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side from substance use disorders, this is the disorder most linked to adult criminal behavio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DSM-5 requires that a person be at leas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rbel"/>
              </a:rPr>
              <a:t>18 years of age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o receive this diagnosi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8d1515"/>
              </a:buClr>
              <a:buSzPct val="145000"/>
              <a:buFont typeface="Symbol" charset="2"/>
              <a:buChar char="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ost people with an antisocial personality disorder displayed some patterns of misbehavior before they were 15 years old (conduct disorder)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9732960" y="5883120"/>
            <a:ext cx="11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90025E-FDD5-4E82-9ABB-FABC72F441DD}" type="slidenum">
              <a:rPr b="0" lang="en-US" sz="1000" spc="-1" strike="noStrike">
                <a:solidFill>
                  <a:srgbClr val="ffffcc"/>
                </a:solidFill>
                <a:latin typeface="Bookman Old Sty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3T19:11:42Z</dcterms:created>
  <dc:creator>Julie Hanauer</dc:creator>
  <dc:description/>
  <dc:language>en-US</dc:language>
  <cp:lastModifiedBy>Staff</cp:lastModifiedBy>
  <dcterms:modified xsi:type="dcterms:W3CDTF">2016-09-08T03:46:21Z</dcterms:modified>
  <cp:revision>19</cp:revision>
  <dc:subject/>
  <dc:title>PowerPoint Presentation</dc:title>
</cp:coreProperties>
</file>